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1.png" ContentType="image/png"/>
  <Override PartName="/ppt/media/image7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4.wmf" ContentType="image/x-wm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14A8-F314-4148-B756-E8CD40DA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91A80-5D9A-4704-BC4D-A0047889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85E4-1B51-40C1-980C-B5499730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CD11-99F0-48EC-966E-319D0598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A80C-4B91-4B11-9969-42113DA6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8E05-92F4-43AD-9615-EEDD6C25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BFCA-FDB8-47C2-A898-96FAAC72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BD4A-8CBC-4929-AF33-6EB53A6E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B45B-B0A4-4D3E-9B24-B6FDA4D8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5924-2EDF-418D-B957-3D2A24D0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07FE-3048-409A-A5A8-FB9818E8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0970-6568-4692-880B-498ED0FB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5D4F-D680-425B-916F-1C24E35A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4FF7-2D8E-4456-8EC2-2B07622F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83A5-FC14-45EA-8A87-793C56BF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9F34-7228-47F6-98FE-A77BB12D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4AEF-CBA7-4252-851C-1218738C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1360-A52C-40F4-9C4B-B24E92DC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CC59-1FA7-4F48-B532-1354527C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B29A-DB43-4D2D-A25C-980E1C50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B560-BD25-484B-A2A3-8CCFF368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DBF8-4DDC-4F6D-8EAB-1CC95DDB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019E-2A85-4B74-A5CD-E7757FE5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B7F0-F4FF-4AA8-BF2F-71D4C752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3D6A-9321-42C9-8951-5084DB984AB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352D-E626-423B-A66E-4EE7DEEDE5A8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dfdef6"/>
                </a:solidFill>
                <a:latin typeface="Arial"/>
              </a:rPr>
              <a:t>Дијагностика ране трудноће и методе праћења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ф др А.Живанови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Хумани Хорионски Гонадотропин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Тестови за детекцију бета субјединице: антитела која настају имунизацијом животиња (поликлонална) или антитела која натају хибридном техником (моноклонал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нхибиција аглутин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Радиоимуноесе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нзим повезан имуносорбент тест (ЕЛИЗ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иохемијска трудноћ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ктопична трудноћ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Гестацијске трофобластне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исгермином, ембрионални карцином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7" name="Picture 7" descr="Urin test 2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8" descr="urin test +1"/>
          <p:cNvPicPr/>
          <p:nvPr/>
        </p:nvPicPr>
        <p:blipFill>
          <a:blip r:embed="rId2"/>
          <a:stretch/>
        </p:blipFill>
        <p:spPr>
          <a:xfrm>
            <a:off x="4648320" y="2352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Сигурни знаци трудноћ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Регистровање срчане акције пл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алпирање активних покрета пл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лтразвучна дијагнос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5" descr="fetal_heart_rate"/>
          <p:cNvPicPr/>
          <p:nvPr/>
        </p:nvPicPr>
        <p:blipFill>
          <a:blip r:embed="rId4"/>
          <a:stretch/>
        </p:blipFill>
        <p:spPr>
          <a:xfrm>
            <a:off x="457200" y="2352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Ултразвук у првом триместру трудноћ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SzPct val="15673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Утврђивање и лоцирање трудноће – искључити ектопични гравидите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5673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Дијагностика виабилтета плода – дијагноза изосталог побачај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5673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Одређивањ гестационе старости трудноће и термина порођаја – мања трудноћа прецизнији параметр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Дијагостиковање мултиплих трудноћ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Дијагностиковање туморозних промена на материци и јајницима током трудноћ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Скрининг на аномалије током првог триместран (Нухална транслуценција, аненцефалус итд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Интервентни ултразвук (биопсија хорионских чупица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Дијагноза моларне трудноћ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5" name="Picture 9" descr=""/>
          <p:cNvPicPr/>
          <p:nvPr/>
        </p:nvPicPr>
        <p:blipFill>
          <a:blip r:embed="rId1"/>
          <a:stretch/>
        </p:blipFill>
        <p:spPr>
          <a:xfrm>
            <a:off x="1225440" y="1600200"/>
            <a:ext cx="2502000" cy="2190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0" descr=""/>
          <p:cNvPicPr/>
          <p:nvPr/>
        </p:nvPicPr>
        <p:blipFill>
          <a:blip r:embed="rId2"/>
          <a:stretch/>
        </p:blipFill>
        <p:spPr>
          <a:xfrm>
            <a:off x="5261040" y="1600200"/>
            <a:ext cx="2813040" cy="21906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1" descr=""/>
          <p:cNvPicPr/>
          <p:nvPr/>
        </p:nvPicPr>
        <p:blipFill>
          <a:blip r:embed="rId3"/>
          <a:stretch/>
        </p:blipFill>
        <p:spPr>
          <a:xfrm>
            <a:off x="457200" y="4056120"/>
            <a:ext cx="4038480" cy="19638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2" descr=""/>
          <p:cNvPicPr/>
          <p:nvPr/>
        </p:nvPicPr>
        <p:blipFill>
          <a:blip r:embed="rId4"/>
          <a:stretch/>
        </p:blipFill>
        <p:spPr>
          <a:xfrm>
            <a:off x="5816520" y="3943440"/>
            <a:ext cx="17017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5" descr="embrion uz1"/>
          <p:cNvPicPr/>
          <p:nvPr/>
        </p:nvPicPr>
        <p:blipFill>
          <a:blip r:embed="rId1"/>
          <a:stretch/>
        </p:blipFill>
        <p:spPr>
          <a:xfrm>
            <a:off x="2666880" y="1536840"/>
            <a:ext cx="3810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Ултразвук у праћењу трудноћ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SzPct val="15673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Одређивање гестационе старости плода у другом триместру </a:t>
            </a:r>
            <a:r>
              <a:rPr b="0" lang="en-AU" sz="2100" spc="-1" strike="noStrike">
                <a:solidFill>
                  <a:srgbClr val="ffffff"/>
                </a:solidFill>
                <a:latin typeface="Arial"/>
              </a:rPr>
              <a:t>(+/- 10 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дана</a:t>
            </a:r>
            <a:r>
              <a:rPr b="0" lang="en-AU" sz="2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545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Бипаријетални дијаметар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обим главе и абдомена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дужина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femur</a:t>
            </a: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Скрининг на аномал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spina bifida,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рчане мане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номалије бубрега, екстремитета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Скрининг за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placen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pr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evi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Цервикографија – дужина и облик грлића материц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Дијагностика препарталних крварења из материц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Дијагностика феалног раста током трудноће: симетричан и асиметричан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Дијагностика полихидрамниона, олигоамниона као и појаве феталног хидропс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Интервентни ултразвук за амниоцентезу и кордоцентез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Ултразвук у праћењу трудноћ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Дијагностика стања плод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mniotic fluid index </a:t>
            </a: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или највећи промер плодове вод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Фетални дисајни покре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Фетални покрети и тонус (биофизички профил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Проучавање протока (</a:t>
            </a:r>
            <a:r>
              <a:rPr b="0" lang="en-AU" sz="2100" spc="-1" strike="noStrike">
                <a:solidFill>
                  <a:srgbClr val="ffffff"/>
                </a:solidFill>
                <a:latin typeface="Arial"/>
              </a:rPr>
              <a:t>Doppler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Умбиликална артериј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Фетална средња церебрална артериј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Дуктус артериозу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Артерије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Uterin</a:t>
            </a: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Дијагностика поремећаја положаја и налегања плод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Интервентни ултразвук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Трансфузија код хидропса, катетеризација код хидронефрозе, касна амниоцентеза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Стадирање зрелости постељице </a:t>
            </a:r>
            <a:r>
              <a:rPr b="0" lang="en-AU" sz="21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контрадикторни ставови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Дијагностика постпарталних промена на материц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Биопсија хорионских чупиц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308480" y="1125000"/>
            <a:ext cx="483552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Генетске и хромозомске особине хорионског ткива су идентичне феталн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Mohr 1968.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први узео део хориона фрондозума уз помоћ хистероскоп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спирација ћелија хорион фрондозума из средишњег дела будућих котиледона (мања могућност погрешних резултат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Трансабдоминално или трансвагинал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5" descr="cvs2"/>
          <p:cNvPicPr/>
          <p:nvPr/>
        </p:nvPicPr>
        <p:blipFill>
          <a:blip r:embed="rId5"/>
          <a:stretch/>
        </p:blipFill>
        <p:spPr>
          <a:xfrm>
            <a:off x="457200" y="2522520"/>
            <a:ext cx="40384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Индикације за биопсију хорионских чупиц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ариотипиз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тарост родите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етходно дете са хромозомским аномалиј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ранслокација или друге хромозомопат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дређивање пола (хемофилиј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дређивање метаболичких поремећаја (активност ензима код сфинголипидоза, олигосахаридоза, аминоацидопатија, гликогеноза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НК анализе генских локуса (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Duchenova paraliza, Phenylketonuria, Beckerova mišićna distrofija, Citična fibroza, hemoglobinopatije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еталне инфек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Трудноћа је физиолошко стањ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427280" y="1267920"/>
            <a:ext cx="471636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ијагноза трудноће је обично веома једноставна у клиничкој пракс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ндокрине, физиолошке и анатомске промене које се јављају у трудноћи доводе до знакова и симптома, које делимо у три групе: несигурне, вероватне и сигур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7" descr="profimedia-0031791661"/>
          <p:cNvPicPr/>
          <p:nvPr/>
        </p:nvPicPr>
        <p:blipFill>
          <a:blip r:embed="rId3"/>
          <a:stretch/>
        </p:blipFill>
        <p:spPr>
          <a:xfrm>
            <a:off x="969840" y="1600200"/>
            <a:ext cx="30132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7" descr="Kariotip"/>
          <p:cNvPicPr/>
          <p:nvPr/>
        </p:nvPicPr>
        <p:blipFill>
          <a:blip r:embed="rId1"/>
          <a:stretch/>
        </p:blipFill>
        <p:spPr>
          <a:xfrm>
            <a:off x="2666880" y="1731960"/>
            <a:ext cx="38102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Рана амниоцентез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995280" y="1197000"/>
            <a:ext cx="514836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јстарији инвазивни дијагностички поступа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877. Трансабдоминалу амниоцентезу описал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Prochownick, Von Schatz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Lamb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966.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teel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Breg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у први култивисали феталне ћелије из амниона и одређивали кариотип.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Lancet, "Chromosome analysis of human amniotic-fluid cell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972.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Jens Bang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Allen Northeved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ви користили ултразвук за амницентез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Picture 6" descr="amniocenteza1"/>
          <p:cNvPicPr/>
          <p:nvPr/>
        </p:nvPicPr>
        <p:blipFill>
          <a:blip r:embed="rId5"/>
          <a:stretch/>
        </p:blipFill>
        <p:spPr>
          <a:xfrm>
            <a:off x="0" y="1773360"/>
            <a:ext cx="40384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Рана амниоцентез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глом за пункцију под контролом ултразвука улази се у амнинску шупљину око 17. недеље гестациј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спирација 10 до 20 ццм плодове в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од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Rh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егативних трудница после интервенције обавезна имунопрофилак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нализа ћелијске култур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ариотипиз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Метаболички поремећај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дређивање генетских локу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5" descr="trizomija 21kariogram"/>
          <p:cNvPicPr/>
          <p:nvPr/>
        </p:nvPicPr>
        <p:blipFill>
          <a:blip r:embed="rId1"/>
          <a:stretch/>
        </p:blipFill>
        <p:spPr>
          <a:xfrm>
            <a:off x="3048120" y="1322280"/>
            <a:ext cx="30477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Биохемијска испитивања амнионске течност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езије ЦНС-а: алфа-фетопротеин, ацетилхолин естераз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ремећај феталних бубрега: алфа1-антитрипсин, трансферин, албуми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етаболички поремећаји: ацидоаминопатије/мукополисахаридо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нгенитална хиперплазија надбубрега: 17-хидроксипрогестер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уковисцидо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Касна амниоцентез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релост феталних плућа (Л/С одно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оцена оштећења плода код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Rh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зоимунизације (билируби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ијагноза амнионске инфек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мниоинфуз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5" descr="vagina_4by5"/>
          <p:cNvPicPr/>
          <p:nvPr/>
        </p:nvPicPr>
        <p:blipFill>
          <a:blip r:embed="rId5"/>
          <a:stretch/>
        </p:blipFill>
        <p:spPr>
          <a:xfrm>
            <a:off x="457200" y="2046240"/>
            <a:ext cx="403848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Кордоцентез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355640" y="1125000"/>
            <a:ext cx="461988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нтраутерусно узимање узорка феталне кр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ади се под контролом ултразвука, после 22. недеље гестациј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гле за пункцију од 20 до 24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ежа техника узимања узорка – једноставнија за цитогенетска испитивањ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изик од феталних компликација: фетална хеморагија, тромбоза крвних судова пупчаника, рефлексна брадикардиј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Picture 5" descr="CC1"/>
          <p:cNvPicPr/>
          <p:nvPr/>
        </p:nvPicPr>
        <p:blipFill>
          <a:blip r:embed="rId6"/>
          <a:stretch/>
        </p:blipFill>
        <p:spPr>
          <a:xfrm>
            <a:off x="771480" y="1962000"/>
            <a:ext cx="3409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Индикације за кордоцентезу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Неуспела култура амнионских ћелиј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Мозаицизам утврђен претходном амницентезом или биопсијом хорионских чупи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индроми везани за фрагилни Х хромозом (Мартин Бел синдром менталне ретардациј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индроми са хромозомском нестабилношћ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Фанконијева анемија (панцитопенија, микроцефалија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Bloom-</a:t>
            </a: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ов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синдром (низака раст, кожа осетљива на сунце, повећана инциденца тумор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Ксеродерма пигментозум (фотосензитивност и рани натанак малигних тумор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Атаксија телеангиектазија (лимфоми, карцином желуц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индроми са малим хромозомским делецијама</a:t>
            </a: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: аниридија/вилмсов тумор (делеција 11п), Ретинобластома (делеција 13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q) Prader-Willi Sy (del15q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Ултразвучно откривене феталне аномалије</a:t>
            </a: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: Омфалокела, цистични хигром, неимунолошки хидропс, дуденална атрезија, анална атрезија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Необјашњени интраутерусни застој у расту пл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dfdef6"/>
                </a:solidFill>
                <a:latin typeface="Arial"/>
              </a:rPr>
              <a:t>Анатомске и физиолошке промене жене у трудноћи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ф др А.Живанови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Материц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Хипертрофија и дилатација: до 20 недеље гестације долази до повећања запремине материце хиперплазијом (размножавањем ћелија), после долази до хипертрофије. Утерус у термину тежак око 1.100.гр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омене у величини, облику и позицији: до 12. н.г. у малој карлици. У 6. лунарном месецу у нивоу пупка, 9. лунарни месец у нивоу ребарних лук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омене у контрактилности глатке мишићне ћелије: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Braxton Hicks (1872) –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ритмичне, спорадичне контракције чији интензитет варира од 5 до 25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mHg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појачава се учесталост са растом трудноћ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омене на грлићу материце: током трудноће долази до смањивања односа мишићно/везивне компонен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Несигурни симптоми трудноћ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Мучнина са или без повраћања. Најчешће се јављају јутарње мучнине, које почињу око 6. недеље геста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Учестало мокрење, које настаје услед притиска гравидне материце на мокраћну бешику (први тиместа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Осећај ум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Осећај феталних покрета (“оживљавање” 16. до 20. недеље гестациј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7" descr="Nausea-and-vomiting"/>
          <p:cNvPicPr/>
          <p:nvPr/>
        </p:nvPicPr>
        <p:blipFill>
          <a:blip r:embed="rId5"/>
          <a:stretch/>
        </p:blipFill>
        <p:spPr>
          <a:xfrm>
            <a:off x="662040" y="1600200"/>
            <a:ext cx="3627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Абдоминални зид и кож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triae Gravidarum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: посебно у другој половини трудноће у пределу абдомена, груди и бу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ијастаз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.rectus abdominis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: од минималних промена код прворотки до хернијација код вишеротки (висећи трбух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игментације – због повећаног лучењ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SH, E2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Linea nig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hloas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жне васкуларне промене због хиперестрогенемиј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аскуларн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pider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еву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almarni eri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Промене метаболизма у трудноћ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већање телесне масе – фетус 3.400г, Плацента 650г, амнионска течност 800г, Материца 970 г, дојке 405 г, крв 1450г, ектраваскуларна течност 1480г, масно ткиво 3345г : укупно идеално 12.500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етаболизам воде: повећана је ретенција воде током трудноће. Смањена осмоларност плазме (за 10 мОсм/кг) повећава осећај жеђи и секрецију вазопресина. Повећава се количина воде у организму (3,5 л фетус, плацента и плодова вода. 3 литра у крвотоку, материци и дојкама). Повећан унос соли може довести до патолошког нагомилавања воде и еде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етаболизам протеина: у термину фетус и постељица садрже око 500 г проте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Промене метаболизма у трудноћ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етаболизам масти: концентрација липида, липопротеина и аполипопротеина током трудноће расте.  Ниво холестерола се мења током трудноће. Концентрациј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LD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расте и постже највећи ниво око 32. н.г.(користи се за синтезу прогестерона у постељици). Настаје услед ефекта естрогена и прогестерона на ћелије јетре.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HDL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е повећава све до 22-24н.г. због деловања естрогена. Касније долази до његовог пада због повећане резистенције на инсулин и повећане концентрације инсулина у плаз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етаболизам минерала: током трудноће постоји повећана потреба за уносом гвожђа и калцију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Метаболизам угљених хидрат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бог присутног хуманог плацентног лактогена у нормалној трудноћи долази до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мерене хипогликемије у периоду када се не узима хр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стпрандијалне хипергликем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Хиперинсулинем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бог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HPL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ероватно постоји хипертрофија и хиперплазија бета ћелија панкреаса – повећана концентрација инсулина у плазми са већом супресијом глукагона – због одржавања постпрандијалне концентрације гликозе код фетус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Кардиоваскуларни систем</a:t>
            </a: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рчана фреквенција се повећава током трудноће и достиже током трећег триместра повећање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15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ткуцаја/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in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односу на базалну линиј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ртеријски крвни притисак се смањује з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5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15 mmHg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оком другог триместра са повратком на нормалне вредности у термину порођај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Циркулаторни волумен се повећава з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50%,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главном повећањем волумена плазме што доводи до хемодилуције 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„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изиолошке анемиј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трудноћ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Хематокрит у трећем триместру је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0,30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о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0,3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ве промене су битне како би се смањио укупан губитак еритроцита током крварења у порођају.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Кардиоваскуларни систем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рчани излазни волумен крви се повећава током трудноће, тако да достиж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20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 30%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еће вредности, а крајем трећег триместра чак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40%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еће вредности у односу на стање пре трудноћ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ko 25%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циркулаторног волумена одлази за потребе материц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трећем триместру материца механички, може притиском на вену каву да редукује венск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nput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срце, уколико трудница лежи на леђим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- sindrom vene ca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изиолошки васкуларни систем постељице је максимално дилатиран и не поседује значајну ауторегулаторну резер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Несигурни знаци трудноћ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зостанак менструације (секундарна аменореј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омене у дојкама у смислу увећања, појачане пигментације око ареола и  појаве колостру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омена боје вагиналне слузокоже, постаје ливидна (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hadwick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в знак -188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већана пигментација коже, линеа фуска, појава стриј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9" descr="Areola dojki"/>
          <p:cNvPicPr/>
          <p:nvPr/>
        </p:nvPicPr>
        <p:blipFill>
          <a:blip r:embed="rId5"/>
          <a:stretch/>
        </p:blipFill>
        <p:spPr>
          <a:xfrm>
            <a:off x="457200" y="2976480"/>
            <a:ext cx="403848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Вероватни знаци трудноћ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већање обима абдомена, после 12. недеље гестације када материца излази из мале карлиц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омене у величини, облику и конзистенцији материце. Бимануелним прегледом могу се описати Хегаров знак размекшања истмуса и Пискачеков знак асиметричног увећања материц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азмекшавање грлића материц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Braxton Hicks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ве контракциј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зитиван балотман плода у односу на материц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Ендокрини тестови – откривање присуства хуманог хорионског гонадотроп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5" descr="hegarov znak"/>
          <p:cNvPicPr/>
          <p:nvPr/>
        </p:nvPicPr>
        <p:blipFill>
          <a:blip r:embed="rId1"/>
          <a:stretch/>
        </p:blipFill>
        <p:spPr>
          <a:xfrm>
            <a:off x="3019320" y="1298520"/>
            <a:ext cx="3105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Хумани Хорионски Гонадотропин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Hirose (1919)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показао трофички ефекат ткива хумане плаценте на материцу и јајник зеч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sheim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Zondek (1927)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“хормон трудноће” из урина гравидних жена имали су исти ефекат на јајнике зечи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Gey (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1938) доказао да се овај хормон лучи у ћелијама трофобласта (култура ткив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ндукција овулације код зечица са урином трудних жена је био стандардни тест више од 40 година (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-Z test, Friedman-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в тест) – биолошки тесто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Хумани Хорионски Гонадотропин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ликопротеин који луче ћелије синцициотрофобласта, почиње да се ствара већ у периоду имплантациј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оже се детектовати у крви труднице у периоду од осам до девет дана од овулациј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иво хормона расте рапидно до 60 – 70 дана трудноће, затим благо опада до 100-130 дана када задржава константне вредности до краја трудноћ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нцентрација у урину прати концентрацију у крви (садржина ХХГ у је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ом литру плазме је једнака садржини у 24. часовном узорку ури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Хумани Хорионски Гонадотропин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Гликопротеин који се састоји од 244 аминокиселине са молекуларном масом од 36.7 к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Хетеродимер са две субјединиц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лфа субјединица иста као и код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LH, FSH, T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Beta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убјединица специфична, садржи 145 аминокиселина које су производ шест хомологих гена који се налазе на 1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хромозо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тимулише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LHCG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рецепторе на жутом телу и доводи до повећаног стварања прогестер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20:00:50Z</dcterms:created>
  <dc:creator>Zivanovic</dc:creator>
  <dc:description/>
  <dc:language>en-US</dc:language>
  <cp:lastModifiedBy>ASUS</cp:lastModifiedBy>
  <dcterms:modified xsi:type="dcterms:W3CDTF">2014-04-01T18:07:07Z</dcterms:modified>
  <cp:revision>3</cp:revision>
  <dc:subject/>
  <dc:title>Дијагностика ране трудноће и методе праћења</dc:title>
</cp:coreProperties>
</file>