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D15-BEDE-49AB-8745-0EE78446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367-CA31-4129-AAC7-B08426F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F7A-B2C4-443D-8190-EFA86DD0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A33-D195-48CF-83F0-DF530E46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8C23-5FCB-47BE-8596-D5BF3070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C699-CA0A-4730-B328-84D50FEA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7DF1-7AF2-46BB-BBE1-B69185F2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5685-7951-41C5-880D-9AF6C775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2116-EE16-4BD8-B3BF-67B0434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D65A-29A5-45A3-841C-4176391B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D763-1D1F-4ED7-98CD-56C1102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6E0-FC4E-4E61-BE75-F5FC3FE7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659-C7BF-4D40-BD02-46E6627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3B48-C043-4AC3-985D-F5ECD86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EA69-8EF6-4ED4-ABD1-F39DF751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85E7-A850-4C11-8683-243FDB65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3319-51A6-4AA5-9103-B75B5060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ADE1-52E1-4815-900D-938F747D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2D6C-8788-4E14-A495-B44A9B53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A139-1884-4DB7-A44A-0A776C3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3357-829D-4E4C-A80C-7C0F360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E1DA-54E2-42F4-B7E1-B9AC071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F75-3A25-4231-80A1-2A19AA3C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C50B-321A-459C-BB03-BE38329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F5DC-9FC9-48BB-ACFA-51B0C7B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4527-3E22-4244-8EBD-FF8CEA4F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A1FA-A4D7-4118-A5AC-860D604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BA87-F59F-4816-B67B-B417FE6B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E472-D1A3-4A43-A5FF-76276E5A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6249-7A8C-49D7-895D-B77A25AD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0573-5E70-48E2-BC3E-A973529E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679E-09AC-4F3E-8ACE-227E85FF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A91C-12F6-4A4A-83E0-EEE82AFB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21E-D5E3-4A93-A1C4-7BEF4C64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3DAAD-75C6-446B-8A4A-4EA66284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7AE1-9D26-417A-AA2B-EF387FC7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062A-9ECD-40C3-90EA-FB0C8B6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79A8-952F-4E64-9B51-AF84216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245C-9FD7-4A71-8429-EA90698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154A-CE27-4114-B26D-442897E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30D5-9B6E-46D7-B64B-48B148D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DBD9-CDC5-4FAE-B652-C21D04A4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520E-EEB5-409C-97DD-351716C5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7946-6B6D-49CD-9655-28D1932D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588-2782-4293-B0B0-8D7A2CC4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F80FF-D2BA-4E6D-8004-2A92DD22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D202-9027-4DFA-A02B-071F7D7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29DC4-D361-4D3D-86C2-68CA2C01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18D1-00ED-4AB7-991B-3DCC2DA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E863-DCF5-4884-8C9C-800F6A30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AE17-99E3-4E2B-B686-FB242D1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A85D-74E2-4C8B-8052-C2985C5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E04E-F3F1-4B7F-BFAD-301A7FED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543F9-12E3-48D6-95EA-5C5E59F8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D055-C81A-4986-965C-E6A30CDC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47D-5AC7-458E-BFDB-478BF77A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1027-90B8-4D3C-B2FD-6F9AEAE2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31A-9F68-4247-82E8-DCCD7602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AFE-7E0D-4D17-857C-A2DEDE7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57B-3B90-4F9E-8DB0-2CDA5D7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AD1-FE7C-401E-902A-698E26EE87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79AC-0504-427B-AF16-992256FA1C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5A2D-0276-41D2-A763-A104F7ABAC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621B-0D6C-48E5-AACB-E14F690C28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BEE6-3B14-48FD-8252-3C4FDB80F8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Ванматерична трудноћа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Дијагноза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50" name="Content Placeholder 4" descr="EU 3.jpg"/>
          <p:cNvPicPr/>
          <p:nvPr/>
        </p:nvPicPr>
        <p:blipFill>
          <a:blip r:embed="rId1"/>
          <a:stretch/>
        </p:blipFill>
        <p:spPr>
          <a:xfrm>
            <a:off x="539640" y="2060640"/>
            <a:ext cx="3961080" cy="3097080"/>
          </a:xfrm>
          <a:prstGeom prst="rect">
            <a:avLst/>
          </a:prstGeom>
          <a:ln w="0">
            <a:noFill/>
          </a:ln>
        </p:spPr>
      </p:pic>
      <p:pic>
        <p:nvPicPr>
          <p:cNvPr id="251" name="Content Placeholder 5" descr="EU 4.jpg"/>
          <p:cNvPicPr/>
          <p:nvPr/>
        </p:nvPicPr>
        <p:blipFill>
          <a:blip r:embed="rId2"/>
          <a:stretch/>
        </p:blipFill>
        <p:spPr>
          <a:xfrm>
            <a:off x="4968720" y="2060640"/>
            <a:ext cx="3826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Лечењ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Лечење ванматеричне трудноће може да буде конзервативно и оперативн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нзервативно лечење ванматеричне трудноће може да буде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псервационо- ултразвучно праћење и мерење серумског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; у око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30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 % ектопичних трудноћа долази д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спонтане регресиј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дикаментозно-  употребом </a:t>
            </a:r>
            <a:r>
              <a:rPr b="0" i="1" lang="sr-R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methotrexata-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ји је антагониста фолне киселине и који доводи до разарања  трофобласта. Употребљава се локално или системск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Лечењ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Хируршко лечење је најчешћи метод; лапароскопски приступ је метода избо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Некада је неопходан  отворени приступ; најчешће се врши једнострано одстрањивање јајов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мпликације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Непосредне: обилно крварење, шок, ДИК, смрт(1/1000 ванматеричних трудноћа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дложене: перитонитис, салпингитис, интестиналне опсктрукције, стерлите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анматерична трудноћ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 дефиницији представља имплементацију оплођене јајне ћелије ван материчне дупљ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авља се у око 3% свих трудноћа у САД, док је инциденца у Европи око 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хваљујући ултразвучном  праћењу  ране трудноће, број смртних случајева код ванматеричне трудноће се  знатно смањио, али је и даље један од водећих узрока смрти у трудноћи-1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тиологиј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Физиолошки оплодња се врши у завршном делу јајовода, односно у фимбријама; одатле зигот путује до материчне дупље где се врши нида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Блокада у континуитету јајовода доводи до започињања трудноће ван материчне дупљ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Разлози за то су најчешће опструктивни, односно постојање прираслица у туби које су опет последица СПБ ( C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hlamidia trachomati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)  или претходних хируршких интервенција 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salpingotomia, salpingectomia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рираслице се могу формирати и услед конгениталних аномалија јајовода,  ендометриозе, дуготрајног коришћења ИУД-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анматерична трудноћ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 95% случајева ванматерична трудноћа се формира у јајоводу(ампуларном делу), 3% је могућност да трудноћа буде оваријал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 преостала 2% трудноћа се формира у цервиксу, перитонеуму, широким везама  или у абдомен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Content Placeholder 6" descr="EU 1.png"/>
          <p:cNvPicPr/>
          <p:nvPr/>
        </p:nvPicPr>
        <p:blipFill>
          <a:blip r:embed="rId1"/>
          <a:stretch/>
        </p:blipFill>
        <p:spPr>
          <a:xfrm>
            <a:off x="684360" y="1916280"/>
            <a:ext cx="39798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атогенез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осле нидације зигота ван ендометријума, трофобласт продире у везивно ткиво jajовода, узрокујући крварење и формирање субсерозног хематом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олази до прогресивног растезања јајовода које неумитно води ка руптури, након које најчешће долази до смрти ембрио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Руптура може бити интракапслуларна (абортус тубе) или екстракапсуларна; крварење и избацивање замет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 утерусу без обзира на ектопичну локализацију трудноће долази до пролифиреције ендометријума која касније доводи до крварења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x uter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линичка слик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У клиничкој слици ванматеричне трудноће карактеристичан је тријас симптома 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Бол у малој карлици &gt;9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Аменореја – 8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Вагинално крварење- 80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Бол  у малој карлици почиње у виду сталног бола који настаје услед екстензије зида јајовода; услед појачане перисталтике јајовода бол прогредира у грчеве јачег интензите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Услед руптуре тубе јавља се оштар бол услед чега жена може да изгуби свест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Накупљање крви у Дугласу узрокује притисак на ректум; накупљање крви у перитонеуму доводи до субдијафрагмалног бола који се шири у лопатицу- Лафонов знак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линичка слик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Изостанак менструације није сигуран знак, посебно што се код 15% пацијенткиња руптура тубе дешава пре термина наредне менструац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Међутим, аменореју са ирегуларним крварењем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x utero</a:t>
            </a:r>
            <a:r>
              <a:rPr b="0" i="1" lang="sr-RS" sz="2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одмах треба довести у везу са ектопичном трудноћо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рварење је оскудно али упорно; крв је тамније боје и крварење је мање него у регуларном менструалном циклус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линички симптоми ванматеричне трудноће настају најчешће  6-10 недеља након последње менструац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Дијагноз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Дијагноза ванматеричне тудноће се поставља на основу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Анамнезе- обавезн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линичке слик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Гинеколошког налаза- утерус је увећан и размекшан. Ако још нема руптуре тубе, она се може опипати; уколико је дошло до крварења у трбушну дупљу карактеристичан знак је </a:t>
            </a:r>
            <a:r>
              <a:rPr b="0" i="1" lang="sr-RS" sz="2200" spc="-1" strike="noStrike">
                <a:solidFill>
                  <a:srgbClr val="000000"/>
                </a:solidFill>
                <a:latin typeface="Cambria"/>
              </a:rPr>
              <a:t>крик Дуглас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Лабораторијских анализа- одређивање нивоа серумског 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HCG.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ритична вредност која указује на ектопичну трудноћу без обзира на ултразвучни налаз је 1500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U/m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Ултразвука – златни стандар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Допунских метода: експлоративна киретажа, кулдоцентеза, експлоративна лапаратомиј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Дијагноза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47" name="Content Placeholder 4" descr="untitled.png"/>
          <p:cNvPicPr/>
          <p:nvPr/>
        </p:nvPicPr>
        <p:blipFill>
          <a:blip r:embed="rId1"/>
          <a:stretch/>
        </p:blipFill>
        <p:spPr>
          <a:xfrm>
            <a:off x="900000" y="2060640"/>
            <a:ext cx="3838680" cy="2808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7213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5:49Z</dcterms:modified>
  <cp:revision>233</cp:revision>
  <dc:subject/>
  <dc:title>ФАКУЛТЕТ МЕДИЦИНСКИХ НАУКА УНИВЕРЗИТЕТ У КРАГУЈЕВЦУ</dc:title>
</cp:coreProperties>
</file>